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F36-F872-46AD-A5D2-98B74127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CF3-2982-4465-8B01-2461E4B0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DAA-73DC-4046-A6F0-8EB19CDE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D8F-0BBF-45F7-A5C6-7F015DD8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C09-5D16-4FAF-923E-4CFAF7A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781-72ED-4B87-8246-A1E57908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036-F25E-492D-A4C3-E9D85524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CA9-DE7C-41AF-8C7A-D9E3ECEF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96E-4AED-4BA7-AB79-3FDC69C0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04D-E0F6-4FE1-9FDF-E9D0984A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168-FDEE-42EB-A193-61FC9C95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306-0F2A-413E-BD7E-76AF2B44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EFA4-9D62-4622-851B-ECC019C25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he Divided Kingdom, Part 2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“Till There Was No Remedy”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arter 7, Lesson 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Chron. 25:26-28; 26:1-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Kings 14:18-22; 15:3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91-9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Introduction to Amos...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Judah and Israel prospered at this time and expanded their terri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zziah for being right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oboam II being shown me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adiah and Joel came earl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os - warns Israel that judgment is inevi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rned Judah to shape up, or e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2971800"/>
            <a:ext cx="99036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he Death of Amaziah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Kings 14:18-22; 2 Chron. 25:26-28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th of Amaz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had turned away from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of the servants turned on him, slew him, and buried him in Jerusa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oboam II still reig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he Reign of Uzziah (Azariah)</a:t>
            </a:r>
            <a:br>
              <a:rPr sz="4000"/>
            </a:b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Kings 15:1-3; 2 Chron. 26:1-3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zziah (Azariah), Amaziah’s son, made 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 years 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led 52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7th year of the 41-year reign of Jeroboam 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4190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 of Uzzi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for most of his re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places were not remo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olatry continued as it had under his fa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chariah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Aid to Uzzia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rophet/counsel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hing known about h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oboam II still reig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Uzziah’s Character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2 Kings 15:4; 2 Chron. 26:4-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Uzziah (Azariah) Prospers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Chron. 26:6-8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zziah successful in w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re down the walls of Gath, Jabneh, Ashd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ccessful against the Philistines, Arabians and Mehunims, Ammon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tored Elath (Eloth), a port at the head of the Gulf of Aqab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2 Chron. 26: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oboam II still reig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Uzziah’s (Azariah) Defenses 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Chron. 26:9-10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zziah’s building and farm 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t towers in Jerusal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t towers and dug wells in the low country and in the pla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had a lot of cattle and viney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oboam II still reig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Uzziah’s Military</a:t>
            </a:r>
            <a:br>
              <a:rPr sz="4000"/>
            </a:b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2 Chron. 26:11-15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Jud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zziah’s ar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07,500 trained figh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ll equipped with weapons and arm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t engines of warfare to shoot arrows and st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zziah was blessed by God and his fame went out far and w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ra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roboam II still reig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os prophes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Next les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01:29:00Z</dcterms:created>
  <dc:creator>Don Vines</dc:creator>
  <dc:description/>
  <dc:language>en-US</dc:language>
  <cp:lastModifiedBy>Frank D Vines</cp:lastModifiedBy>
  <dcterms:modified xsi:type="dcterms:W3CDTF">2006-01-08T04:08:39Z</dcterms:modified>
  <cp:revision>20</cp:revision>
  <dc:subject/>
  <dc:title>The Divided Kingdom, Part 2 “Till There Was No Remedy”</dc:title>
</cp:coreProperties>
</file>